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1FAB-A527-4382-8743-BE02187B6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1587-7986-4AE7-B3FB-94107EB60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DC9900-3C78-4DF0-A3A1-1CF5C633D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1CF692-58FD-4D79-9762-1E8F645A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650E26-1D08-4477-8E92-EE4383DC1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7FF7F2-E86B-4D41-8B0D-EF64B01C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3B7AF8-8B57-42D0-BFE7-5A6ADC91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058203-FE72-429D-8BAC-06308D83D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DE7A2A-E76E-4408-8129-4EE23EA35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EDAD7C-C05D-405E-9D5D-052230BA5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97040C-3CC3-443B-B075-E10319DB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9AEE0A-C800-46AF-9E6E-245682F68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CA48F-376C-4809-AB46-19CC737E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C112CA-D59C-4464-A3E6-5B24A7217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C67F3E-2C42-4D40-A09D-E6F675AF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28D99-95D7-4E38-A849-D34851D12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59F2E-D722-4D4B-B329-B8A356E8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AF8BB-91E2-436E-BF9F-9C4B2310C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78E49C-2B3B-4044-BDEE-973C1AC7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70555A-BCE2-49B9-B566-7FF36BEC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951AC6-5FC7-4ABC-ADC7-BFA85FBB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C47F03-CD85-4D8F-AC29-945244ED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D6A0BD-707F-4DB1-BA8A-904FD8FA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A16C-314F-45AE-AEA8-C5F1DD3E4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B6C015-A031-4E51-9721-9A4479A31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BF690-91CD-41AC-AC05-C0110B4DD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4FD12A-5A74-480A-9256-848A215A8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65791E-1327-42CE-B69D-D1126B08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185B6-10DA-40EB-AAC3-B1CADF8F8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04D34B-00E5-4474-A8CB-35212D4F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021EA-734F-4A26-BB02-4BFB5D69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740143-CA78-4F3A-9D37-6A54C153A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7C07C0-3E4E-443A-ADF3-C2CFAFD7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A8ABDB-4F7E-4C70-A966-61B2DB81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FBE81-0551-4FE2-8C1F-6B1598FCB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A7BBB9-B421-4808-AC22-E082AAB03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B9530E-A707-4CB3-B957-C6EFE26B2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80F4B8-18FE-4324-8796-C81129E60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82CC0B-8B35-4ED6-81C0-5A414841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311E41-284C-45AB-9F07-47FDE2B8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72F32FC-E427-4ECC-A829-BB3BEF1E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9C035E-0F7E-4B58-8DCE-7BDE814F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63D6D-05EF-4B70-8145-09B842E17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07C40E-E444-45F3-B7E2-CEC931593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4019FD-1E00-402F-831A-33FCEA558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13BE7-28F9-4B70-B1D5-7D94A747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A14837-C4CC-4C00-A18A-AFAA204C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68E64-083E-41F2-AAB5-A57A33980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781A04-C98B-4923-AF41-727B836DF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643384-581E-448F-933F-439A063DA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CEFD84-4AFE-4690-A453-09FB1325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79CE45-278F-40F8-9E3B-B5AA3B91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F5A0EE-DF27-4243-979F-A8F5E1731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590EF0-9F5C-4DD0-8B4E-248F637FF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AFD18C-2D27-4C9E-A922-7BAF9471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4DB43-62B6-4FB6-A2EF-F2C2CEF0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CA65-45E9-43A6-93B8-1ED8673E9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E9ABF2-BEEF-4A8E-9420-219A4DC60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124F3-83C2-4AEF-91B7-C2793F6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6B2FD6-1B25-431F-8A4B-E3141568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8147E-3829-4920-AB5C-64C52782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A8ECE2-2700-4BBC-9302-03CA40DD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1CA311-8845-421A-9BD7-265CC871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7E8D9A-1E9D-4560-813A-3272E2AD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EFA664-DBAB-4D8E-A719-0A54DA4CC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ACC16A-2FFA-42C0-A31D-8C9970C1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3682BF-D7DE-4150-96D9-69DD126E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2989D-85E6-4E8B-84D7-1414C105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876FAF-39CB-4DA6-867B-B5BE5A95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D024BA7-6138-4EEC-BF6E-31B88290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54273-2B97-4380-92F3-9FFC330B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3333D3-C260-4E1F-BA78-AAF2652F7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AF98E-7FEC-4BDF-ADE5-16369619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B62DF4-C9A0-4D4A-A1DF-297D6F8A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3FF3C1C-F874-417D-B801-FC3F9275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EE6B18-92FF-41C8-BB5E-8436B38AF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6BE4CC-85E6-4E96-8E71-D35587958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60E303-E627-4FF4-BE39-2F5DAD82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61D6-7361-4061-B5BE-EB6B55E5C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B0A32-598B-4AFB-BB85-65F2A056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58ECAFC-647F-4D1B-9E22-9A98B6DE9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891B704-5993-43A2-9EE4-B4ACACE6E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DD83EC-B141-41C7-BF7E-29C216C2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D6AB3-C800-447A-BB5D-06813D4A1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C1F324-3590-4008-8778-8C62D317D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C6915C-76BE-46A7-AE55-9438CDCC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05807-FB33-4D7A-9E95-91FDDFB17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D5471D-01FA-407D-A71A-3E81BFD1A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185D07-669F-414C-AAEF-0D5951EC4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92758-6934-442C-9988-F180B6C02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A04A3E-2C9C-4F40-80F2-DB0AA638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D52BE4-4F9C-4A7F-A91C-630E1A691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224E7A-011B-40DB-9BA9-4A1965E19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385CCA8-B6A2-43D6-94CD-F9A58C013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7521AD-1E49-46D2-8239-803372457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FDB4F4-67A0-4654-A2EA-8207F437E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F8E326-F751-4604-8C6F-BEBEC476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6D0EED-F6BE-4C4D-ACE1-4034BA603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7745A8-B3C9-44E8-8E03-E349C3F7A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1005AB-E3CE-481F-AD7F-C2B166786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AEEA-8C46-460F-B9F3-FFCCDD0E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FEA7E8-BA4D-4D3C-8C97-2E14CEB3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655035-22F9-4FB7-98A5-4F29BF595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F63282F-C8D8-4D46-BBC2-B3E479B95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459E36-533C-401A-9772-F09AD5AF4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7D2C1E-E357-4EBC-9312-2454C709F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6CA52A0-64CE-458A-BF9D-8F221D2E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E4FFFA-3DE7-4736-8B29-D76D6E9E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AA49B8-7BA5-42E2-923D-B6FD8C897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264AD1-C353-4C34-B1FA-4E10DD10B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3AD39A4-F170-4FBE-A0D1-20932231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804C-DC8E-4A3D-B6A6-218A03E6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A585-D2C7-44BE-BBB1-6AF57CC0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B7B649E-6CE4-4894-86F8-89C4FD4CD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A5FD4A-539A-4F27-A695-FBBC3F96B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5266E0-9B92-434E-A66D-CB96EC90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D64971-F751-409B-9B5F-E23BAF6AF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9A558D-854A-431A-B539-10FA4C7F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A17A8B-DE95-42BA-A8A7-9BE314EA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B5726D-52A6-4A2F-9C5D-3F6DFDA8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7CC84A-5512-41A6-B098-24BC0CC1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033FC5-D63E-492B-B34D-00A15D15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58EA77-5BAD-4CF8-8334-09D486052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1B10-7A2E-4B9B-B78A-A21FEBAE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43BD21-77D3-4442-8F9F-4F3236A68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95AA4F-BFCE-44C8-A948-F584E2AB8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D56529C-26F0-4D01-B672-D75ADE90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6C4927-B82C-4806-99D3-A7082288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752114-0CB6-491B-8A9E-86378C22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D36A26-5BB5-4291-95A4-EAE684E59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BD127-5238-47A6-AA12-41AD0914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F21710-782E-4FF9-846A-45A97C7525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EE46A0-FA11-4151-B820-76479A03B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96EEE0-8470-45AB-9C7D-39FC4C338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1319-9B9D-4F50-AF6F-F66E4C6F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47EC02-F6F2-4ADB-BB1E-A4D4BEA3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B86EFA-A62A-4E67-91BC-E92DC883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75EEACA-A0E7-430E-A8EB-087B6B43E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64E8E1-59ED-411D-A0FB-02F74467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CBDAC3-2574-4D23-A582-C870722F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8D925A-9968-4D0E-8934-AC0FCB163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B77992-3C4E-419E-86F5-BC3BBDE88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B6ACAE-E03D-4B7F-A438-CF3538CF2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28C241-15C4-40DB-9475-371D80D9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B40BFB-2B90-4684-98CC-5FC596FE6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9A96-BE59-400D-9433-F872BCCC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F6467C-75DC-4AD9-AB2D-06DB0CF21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DC56C2-E2FE-4C60-899B-2A3C62DF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0776DC-22EB-48E5-88B7-FE09564BF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605848-B805-44D2-851D-8B43E3F06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13296C-6FBD-46BA-944D-D58741C61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631893-FDCB-4348-8587-107E9BC42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BE5434-666D-44A7-A665-7953371FF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268A59-1AF0-4845-8DAE-9C43ECF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7ECA92-D46C-4122-BF0E-DDD80F0CC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1D59E2-CF7C-41B0-85DF-D6717151B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0DCE8-F2EA-4720-9F05-A2138588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B87401-B3E5-42C1-89DA-C90AFF9B7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D1D629-453E-408D-BB3C-3088AE5E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FE6C4E-D6BE-4E4B-A7C2-E61B918CF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21D09B-E342-4D03-9C05-69896FF3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2AB729-813E-4E7F-B6A5-7E35B40D7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45E117-63AF-4747-9824-60487AB02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42B5BF-2F9F-490F-9D8F-C5EF56FC2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0C5CDE-BF8B-4C88-A610-9B8E121A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B1EB7A-7E7F-466F-A971-38E4B44E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B5A72B-8B89-4079-8C00-54A612AF1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5B59C4-1559-4D1A-A23E-EA4124E28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CAF4E7-5A34-4BDD-8EA9-F6C71B588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9075D9-B970-47CC-8199-2FC6FE29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9D7D418-2350-4AE9-8C52-D6B47245B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C3AB4-D260-4ED7-A581-75BE7B0D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D2136-2886-4CB7-8F1C-BE4F5E70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28B63-EE38-4EE0-80E2-51E62FE5B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C4D3D-B97A-4C01-9906-79E271A4A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D45B-F159-47EC-A364-C09477B3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C254E-7660-4133-AC7D-15E59906D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6AE32-90C3-4475-B9CB-E78BDBF7F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9A566D-E5D9-40ED-8148-AB5B84CE5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22AA9-8F4E-4859-BDBD-C3D4C376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0E28BF-5908-4033-B8A3-FEFC3A0B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C1B2D-4CCB-472C-8EC9-335AFABE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5E63FA-B85F-4F30-891B-1CCCC95C3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D52C3A-8524-4701-89AF-81C1292CF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34CC1-BB1F-4BF1-A226-66D0B9533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BC4B69-C090-48D6-A368-40F9DEF09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2BEB-CEBD-4F2C-898B-0386C7038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B1B51-229D-4F0B-937A-7BA3A18B8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C7A5C7-E0E5-4878-9D48-B7A35CEEB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179E45-E086-4F75-863E-F8AA8D050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662D2-621F-42B3-8477-998AE1A22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837EF-D478-4E66-94B8-0DC855513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39A02-D2D6-49A1-B51F-4303A189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DCAF8B-2F0A-40D4-8C6C-AEB90CF29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ED392-5734-4AD1-9D07-6A4D9CE23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620E9-C040-4BF8-94D0-613E1874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D8A79-4CB4-4FFA-ACC8-4F7FCC0B0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779D-392D-475A-A76C-41E2B79A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D4E026-D8DB-4205-8721-A63094B43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29BBCF-0F88-4F89-A65A-52359F63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239E2A-B95B-4580-8780-AB7D84C8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C619FA-E0D3-4929-A42E-B88AB6A6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DC9FA-2FF3-45EA-850A-5E82C9848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D4ED29-8AD9-4EDE-A36E-395AC205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FFED51-088F-410E-BBFC-A9C05D04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127D1B-15A0-4463-B2FC-85E62AFCF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43A473-B687-4124-A090-07586BDB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5BE3D-FCB8-44FB-842F-D96AE29A5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E203-FCD0-4318-950C-1A7785640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0A0875-D20F-4413-9AF7-7C39A70AC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65D3F2-29A0-47F3-B5BE-6F47C6D06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A089F0-E09B-4001-A435-F940C9E2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E468F-E308-4AD2-9174-6CC7BFB0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DC66FF-859E-4FEE-8864-D3D41F8F5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CB8035-AC0C-41FD-BF3E-18A00DF4B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30CC2-099A-4467-AE08-94FAD2506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4783A-509E-461F-A146-A68347EFB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C089A-05E8-42A2-9423-751984E5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50DAC-DF56-477E-860E-326B0D71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49F3-6C19-4C03-BFC5-18C14D1A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EF5CCC-25A0-4245-8EFF-5E9EF80F4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EF5AF9-FB8A-47A6-8370-6F2A66FDF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1B745-A5FE-4DAB-8468-9FCA270ED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356C5-67CE-46D8-A435-493AC592C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9BD358-DEE1-435C-91F8-3C2010FFD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778C4-12F6-4410-8AA3-C1A197A7C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C50148-6D38-4C22-B770-2B12FE70E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2B7B6-37F0-4601-8C65-A337D3FD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B51996-71C9-4FA5-BAFC-EC85E62C0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728F0-DE8F-48BA-99BB-F30116B6E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C9E2-5240-48D4-A13D-C0A7898D4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416108-27D7-41BB-8690-48057297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41BC97-C758-4010-AA5A-1BF72D17A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2AE17C-42A9-46BC-9FDF-8E7402BFD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CDDEF-15C2-44B5-ADD1-2410887A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77443-67CC-437A-BD18-88A81424EF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868266-46A9-4963-947C-DC1B728B9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7E03F4-5C82-451B-B073-2482E0C2F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D50BF-5B45-4705-8AAE-B86357E4F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684A2E-C194-4518-8D1C-EE302D794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5BC55-C84A-4F59-B688-1A0E7271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6A49-6091-4D70-88FA-FCB2B661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CA5A72-89D9-4A12-BB18-8F8BE9669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7F7FF-9D84-440B-B3DD-6750326D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99D9F6-F874-4998-A499-C495956B5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D35D8D-350A-4C96-8BCC-EC0845E2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6949E2-A44C-40F4-B2CF-CDF8D2A84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EE3080-163A-47DF-98D4-C317EF27F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A396B-2848-4A98-98C0-D1E5582E2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CFD194-E20C-456C-AE23-478BBF9FA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878597-828E-45BE-8A62-410946274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417B9-4C3B-4024-9DB5-E175DF5B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9F72F-B0B7-4930-A019-E26933B654B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EB34B-E10D-4C9D-B07E-BA1CECBD8A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621ED-6AED-48F1-9024-D2EDBC8871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E8B5-C143-499A-AEBE-47C16969FF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BD15-ECF7-4D5C-B74B-B2415ED106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42D49-83C1-460E-820C-3FB4C8C61A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0929-5977-43FE-BF09-243F6923A7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65B54-3605-4F53-8C6B-EABCD9625D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3DFFC-A46D-420D-A3F2-F78A707F86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325B-3BB5-4815-A343-A36DDE7E98A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11E9-CF4A-4F30-B840-CF6E15C1BF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DB712-B5B1-457E-8574-2E882C03E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BA7E5-82DB-4FCF-B26B-4901DF9492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7313-5D61-413E-9BA8-BFA0790EDD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1702-3D81-4504-9D1D-1F2A26E9FC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22FA2-3F01-44F3-91EC-19CEE08422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AC0C0-5E3A-4FFE-8CDE-B71F9B47D2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EBA1-BE49-48A0-84FB-ADDE1A04FC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08551-012A-4D64-97C8-1E08D2DB96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48632-3E2E-4BB3-B31D-E0982FD8DA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10238-C207-422B-BDDC-95ED22EE11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235A-9E4B-43B7-A356-4A4CC38E52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9E4F-9BD2-47FF-AC0B-B632C7DB06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6803-019F-4FA5-A57C-2149793FDB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27054-469F-4470-A914-DC0A2CA8CE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09CF-94CC-435D-969D-88FF4259FF9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77D3E-42B6-4BBB-A61A-CBE2C585A3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092FE-5C4E-4BC8-B3AC-D20F37F844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D7CC-E7ED-4D85-95BF-B2862393558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2507A-3942-4D33-A741-1FAD790FDE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A198F-BC99-487F-AB9E-E8136C7C96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DAD20-F2B2-4116-8D63-B492992860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78E89-79BD-48DF-8877-0F3BAFC697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C8EB9-1AC9-47BE-9442-7832FF14F8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100BE-899C-4AEA-A5BB-7ADE8200BD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07D52-3041-4F9F-94FE-652D7D862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C9995-BA32-4178-AB52-E28CCBD53A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EEB45-BD1D-42C0-A46F-6E7064E575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98729-EB78-46F7-AC5D-B76BD53E09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5BD53-885F-42A1-B87C-81A294A054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image" Target="../media/image12.png"/><Relationship Id="rId12" Type="http://schemas.openxmlformats.org/officeDocument/2006/relationships/image" Target="../media/image12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1800360" y="1125360"/>
            <a:ext cx="5543280" cy="1143000"/>
          </a:xfrm>
          <a:prstGeom prst="rect">
            <a:avLst/>
          </a:prstGeom>
          <a:ln w="0">
            <a:noFill/>
          </a:ln>
        </p:spPr>
      </p:pic>
      <p:pic>
        <p:nvPicPr>
          <p:cNvPr id="922" name="图片 28679" descr=""/>
          <p:cNvPicPr/>
          <p:nvPr/>
        </p:nvPicPr>
        <p:blipFill>
          <a:blip r:embed="rId2"/>
          <a:stretch/>
        </p:blipFill>
        <p:spPr>
          <a:xfrm>
            <a:off x="3257640" y="3076560"/>
            <a:ext cx="2628720" cy="704880"/>
          </a:xfrm>
          <a:prstGeom prst="rect">
            <a:avLst/>
          </a:prstGeom>
          <a:ln w="0">
            <a:noFill/>
          </a:ln>
        </p:spPr>
      </p:pic>
      <p:pic>
        <p:nvPicPr>
          <p:cNvPr id="923" name="图片 28680" descr=""/>
          <p:cNvPicPr/>
          <p:nvPr/>
        </p:nvPicPr>
        <p:blipFill>
          <a:blip r:embed="rId3"/>
          <a:stretch/>
        </p:blipFill>
        <p:spPr>
          <a:xfrm>
            <a:off x="442800" y="4237200"/>
            <a:ext cx="8258400" cy="70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图片 69633" descr=""/>
          <p:cNvPicPr/>
          <p:nvPr/>
        </p:nvPicPr>
        <p:blipFill>
          <a:blip r:embed="rId1"/>
          <a:stretch/>
        </p:blipFill>
        <p:spPr>
          <a:xfrm>
            <a:off x="347760" y="1776240"/>
            <a:ext cx="8448480" cy="33055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2"/>
          <a:stretch/>
        </p:blipFill>
        <p:spPr>
          <a:xfrm>
            <a:off x="3059280" y="3429000"/>
            <a:ext cx="50292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3"/>
          <a:stretch/>
        </p:blipFill>
        <p:spPr>
          <a:xfrm>
            <a:off x="5724360" y="342900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4"/>
          <a:stretch/>
        </p:blipFill>
        <p:spPr>
          <a:xfrm>
            <a:off x="2643120" y="414972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4" name="图片 60428" descr=""/>
          <p:cNvPicPr/>
          <p:nvPr/>
        </p:nvPicPr>
        <p:blipFill>
          <a:blip r:embed="rId1"/>
          <a:stretch/>
        </p:blipFill>
        <p:spPr>
          <a:xfrm>
            <a:off x="338040" y="1252440"/>
            <a:ext cx="8467920" cy="43531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2"/>
          <a:stretch/>
        </p:blipFill>
        <p:spPr>
          <a:xfrm>
            <a:off x="4716360" y="4149720"/>
            <a:ext cx="863640" cy="44784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3"/>
          <a:stretch/>
        </p:blipFill>
        <p:spPr>
          <a:xfrm>
            <a:off x="6443640" y="4149720"/>
            <a:ext cx="360360" cy="44784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4"/>
          <a:stretch/>
        </p:blipFill>
        <p:spPr>
          <a:xfrm>
            <a:off x="5651640" y="4710240"/>
            <a:ext cx="129672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9410" descr=""/>
          <p:cNvPicPr/>
          <p:nvPr/>
        </p:nvPicPr>
        <p:blipFill>
          <a:blip r:embed="rId1"/>
          <a:stretch/>
        </p:blipFill>
        <p:spPr>
          <a:xfrm>
            <a:off x="633240" y="128520"/>
            <a:ext cx="7877520" cy="66009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1835280" y="134136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3059280" y="1801800"/>
            <a:ext cx="936360" cy="44784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5219640" y="1801800"/>
            <a:ext cx="936720" cy="44784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2843280" y="227664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1403280" y="2781360"/>
            <a:ext cx="1368360" cy="4474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7"/>
          <a:stretch/>
        </p:blipFill>
        <p:spPr>
          <a:xfrm>
            <a:off x="6012000" y="2752560"/>
            <a:ext cx="504720" cy="44784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8"/>
          <a:stretch/>
        </p:blipFill>
        <p:spPr>
          <a:xfrm>
            <a:off x="1042920" y="3227400"/>
            <a:ext cx="576360" cy="44784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9"/>
          <a:stretch/>
        </p:blipFill>
        <p:spPr>
          <a:xfrm>
            <a:off x="3348000" y="4005360"/>
            <a:ext cx="936720" cy="4474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0"/>
          <a:stretch/>
        </p:blipFill>
        <p:spPr>
          <a:xfrm>
            <a:off x="4586400" y="4508640"/>
            <a:ext cx="936360" cy="44748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1"/>
          <a:stretch/>
        </p:blipFill>
        <p:spPr>
          <a:xfrm>
            <a:off x="7524720" y="4508640"/>
            <a:ext cx="504720" cy="4474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2"/>
          <a:stretch/>
        </p:blipFill>
        <p:spPr>
          <a:xfrm>
            <a:off x="5407200" y="5114880"/>
            <a:ext cx="1469880" cy="44784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3"/>
          <a:stretch/>
        </p:blipFill>
        <p:spPr>
          <a:xfrm>
            <a:off x="5796000" y="6064200"/>
            <a:ext cx="9367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8373" descr=""/>
          <p:cNvPicPr/>
          <p:nvPr/>
        </p:nvPicPr>
        <p:blipFill>
          <a:blip r:embed="rId1"/>
          <a:stretch/>
        </p:blipFill>
        <p:spPr>
          <a:xfrm>
            <a:off x="676440" y="885960"/>
            <a:ext cx="7791120" cy="56386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6431040" y="2997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3564000" y="39178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7667640" y="38894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5"/>
          <a:stretch/>
        </p:blipFill>
        <p:spPr>
          <a:xfrm>
            <a:off x="3160800" y="43797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6"/>
          <a:stretch/>
        </p:blipFill>
        <p:spPr>
          <a:xfrm>
            <a:off x="6070680" y="43941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7"/>
          <a:stretch/>
        </p:blipFill>
        <p:spPr>
          <a:xfrm>
            <a:off x="4356000" y="486900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8"/>
          <a:stretch/>
        </p:blipFill>
        <p:spPr>
          <a:xfrm>
            <a:off x="3952800" y="531504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9"/>
          <a:stretch/>
        </p:blipFill>
        <p:spPr>
          <a:xfrm>
            <a:off x="6084720" y="5819760"/>
            <a:ext cx="63216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0" name="图片 57352" descr=""/>
          <p:cNvPicPr/>
          <p:nvPr/>
        </p:nvPicPr>
        <p:blipFill>
          <a:blip r:embed="rId1"/>
          <a:stretch/>
        </p:blipFill>
        <p:spPr>
          <a:xfrm>
            <a:off x="314280" y="735120"/>
            <a:ext cx="8515440" cy="59338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2"/>
          <a:stretch/>
        </p:blipFill>
        <p:spPr>
          <a:xfrm>
            <a:off x="1417680" y="557532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3"/>
          <a:stretch/>
        </p:blipFill>
        <p:spPr>
          <a:xfrm>
            <a:off x="5364000" y="5589720"/>
            <a:ext cx="1297080" cy="44748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4"/>
          <a:stretch/>
        </p:blipFill>
        <p:spPr>
          <a:xfrm>
            <a:off x="1547640" y="6208560"/>
            <a:ext cx="129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6324" descr=""/>
          <p:cNvPicPr/>
          <p:nvPr/>
        </p:nvPicPr>
        <p:blipFill>
          <a:blip r:embed="rId1"/>
          <a:stretch/>
        </p:blipFill>
        <p:spPr>
          <a:xfrm>
            <a:off x="600120" y="679320"/>
            <a:ext cx="7943760" cy="61344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2411280" y="2205000"/>
            <a:ext cx="5905800" cy="1152720"/>
          </a:xfrm>
          <a:prstGeom prst="rect">
            <a:avLst/>
          </a:prstGeom>
          <a:ln w="0">
            <a:noFill/>
          </a:ln>
        </p:spPr>
      </p:pic>
      <p:pic>
        <p:nvPicPr>
          <p:cNvPr id="956" name="图片 56327" descr=""/>
          <p:cNvPicPr/>
          <p:nvPr/>
        </p:nvPicPr>
        <p:blipFill>
          <a:blip r:embed="rId3"/>
          <a:stretch/>
        </p:blipFill>
        <p:spPr>
          <a:xfrm>
            <a:off x="3276720" y="4448160"/>
            <a:ext cx="360036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7" name="图片 55300" descr=""/>
          <p:cNvPicPr/>
          <p:nvPr/>
        </p:nvPicPr>
        <p:blipFill>
          <a:blip r:embed="rId1"/>
          <a:stretch/>
        </p:blipFill>
        <p:spPr>
          <a:xfrm>
            <a:off x="1266840" y="814320"/>
            <a:ext cx="6610320" cy="5229360"/>
          </a:xfrm>
          <a:prstGeom prst="rect">
            <a:avLst/>
          </a:prstGeom>
          <a:ln w="0">
            <a:noFill/>
          </a:ln>
        </p:spPr>
      </p:pic>
      <p:pic>
        <p:nvPicPr>
          <p:cNvPr id="958" name="图片 55301" descr=""/>
          <p:cNvPicPr/>
          <p:nvPr/>
        </p:nvPicPr>
        <p:blipFill>
          <a:blip r:embed="rId2"/>
          <a:stretch/>
        </p:blipFill>
        <p:spPr>
          <a:xfrm>
            <a:off x="2124000" y="1341360"/>
            <a:ext cx="4924440" cy="2819520"/>
          </a:xfrm>
          <a:prstGeom prst="rect">
            <a:avLst/>
          </a:prstGeom>
          <a:ln w="0">
            <a:noFill/>
          </a:ln>
        </p:spPr>
      </p:pic>
      <p:pic>
        <p:nvPicPr>
          <p:cNvPr id="959" name="图片 55302" descr=""/>
          <p:cNvPicPr/>
          <p:nvPr/>
        </p:nvPicPr>
        <p:blipFill>
          <a:blip r:embed="rId3"/>
          <a:stretch/>
        </p:blipFill>
        <p:spPr>
          <a:xfrm>
            <a:off x="1781280" y="5229360"/>
            <a:ext cx="639108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55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0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4276" descr=""/>
          <p:cNvPicPr/>
          <p:nvPr/>
        </p:nvPicPr>
        <p:blipFill>
          <a:blip r:embed="rId1"/>
          <a:stretch/>
        </p:blipFill>
        <p:spPr>
          <a:xfrm>
            <a:off x="423720" y="2600280"/>
            <a:ext cx="8296560" cy="16574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6804000" y="2708280"/>
            <a:ext cx="1152720" cy="44784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5580000" y="3141720"/>
            <a:ext cx="1152720" cy="4474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5508720" y="3573360"/>
            <a:ext cx="71892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4" name="图片 52231" descr=""/>
          <p:cNvPicPr/>
          <p:nvPr/>
        </p:nvPicPr>
        <p:blipFill>
          <a:blip r:embed="rId1"/>
          <a:stretch/>
        </p:blipFill>
        <p:spPr>
          <a:xfrm>
            <a:off x="519120" y="1152360"/>
            <a:ext cx="8105760" cy="455328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2"/>
          <a:stretch/>
        </p:blipFill>
        <p:spPr>
          <a:xfrm>
            <a:off x="3132000" y="5229360"/>
            <a:ext cx="503280" cy="44748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3"/>
          <a:stretch/>
        </p:blipFill>
        <p:spPr>
          <a:xfrm>
            <a:off x="6659640" y="5229360"/>
            <a:ext cx="5032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9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0T08:27:0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